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6DE-DA5A-4405-A81F-BDEDDF38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62E-A3DD-49B7-9C4F-FBE0C7F9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A89-1FFC-4A20-8B15-74A47A2D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549-34CB-426B-8A56-4EA29CC3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523-9C71-4B5E-88E7-DD1A5D8D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6A5-BA60-40D7-AD06-0B5B54D4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FC02-E78D-4208-B57E-FFC34AF7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EB2-52B9-4D09-81B7-5AC3FA89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637-6DD8-4878-BB25-AFE22DD5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D2D-FBBB-4141-A822-777B18FD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91A-3C3A-4CA5-8045-5DE433F4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FD2-ECEB-4ED7-A8AF-3E5EEDDA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73F9E-0024-42EC-B349-47065EA5C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ack%20hat%201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coat%202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shirt%203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own%20boots%204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boots%205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shirt%206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uy Fawkes, the suspect..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listen and fill-in the ga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62040" y="1768320"/>
            <a:ext cx="6953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ack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is …  was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e was wear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ack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63520" y="1768320"/>
            <a:ext cx="3106800" cy="4989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brow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2760" y="1768320"/>
            <a:ext cx="3210120" cy="49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ere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brow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wer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8:51:56Z</dcterms:created>
  <dc:creator/>
  <dc:description/>
  <dc:language>en-US</dc:language>
  <cp:lastModifiedBy/>
  <dcterms:modified xsi:type="dcterms:W3CDTF">2014-03-22T09:28:57Z</dcterms:modified>
  <cp:revision>9</cp:revision>
  <dc:subject/>
  <dc:title/>
</cp:coreProperties>
</file>